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353-A4D3-4434-9705-88C263C9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4E1-E5A3-4E9C-BE36-C8CB2D60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F60-F8C0-4710-B9E1-0FABC0BD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14C-502D-4429-9866-E9FE6813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E04-43AF-42F9-AC2E-B475FD99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747-A14A-4899-8214-C09C0251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F92-50DC-45CD-9F83-0B25BF76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777-97D3-4B31-81AB-EDAD1C35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9CA-6EE1-4068-B7C2-82B94B87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C6E-B87B-4E71-BE7F-131E2B71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82A-BAF9-4962-972E-D3A14605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D37-A9F5-4EF6-B33A-063FB989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C2B7-EAE2-4550-B2AC-15A69535A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alibri"/>
              </a:rPr>
              <a:t>AP Biology Test Format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 Sections: 90 Minutes 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50% Grade each Se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tion 1 – 50% 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3 Multiple Choice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 Grid in Math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SWER ALL QUESTION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5 Minutes Ea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pending more than 2 minutes on a question move 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question read the last line see if you can answer it, if not then read the whole thing quick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o be 1.30 each question, so at least better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tion 2 – 50% 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Minute Reading Period to read FRQ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 Minutes to answer FRQ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Long FRQs (22 min each) (1 being a lab ques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 Short FRQs (6 min ea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at 4 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at 3 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tion 2 – 50% 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Write your FRQ Answ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 your Answers such as 1a, 1b, 1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t write Literary Style- get to the poin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 the Questio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Neatly and Big En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don’t care about spelling or gramm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in sentences and lots of correct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get a “3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at least 50% right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y Right!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ch the Point Cou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ch Timing! Bring a watc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15:30:04Z</dcterms:created>
  <dc:creator>Allison Magee</dc:creator>
  <dc:description/>
  <dc:language>en-US</dc:language>
  <cp:lastModifiedBy>Allison Magee</cp:lastModifiedBy>
  <dcterms:modified xsi:type="dcterms:W3CDTF">2015-04-06T17:16:46Z</dcterms:modified>
  <cp:revision>5</cp:revision>
  <dc:subject/>
  <dc:title>AP Biology Test Format</dc:title>
</cp:coreProperties>
</file>